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55DE-B80B-4547-B0AF-6E435B34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9D7C-7E1E-49F3-827A-991ED30C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1E3B-44E3-4AB7-9D24-EEB52B061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5B44-9628-4EC5-A72B-6B1EACF3B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FE2A-2489-4672-8B30-3FA9EB42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5393-FABB-4EBB-9131-6B0A26EC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172E-2F62-484A-B861-4780DE6C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86B7-E770-4FDE-90F2-B257A9DD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283E-C505-41B6-8B25-5A0D6B85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7EE6-A8C2-4E48-BE44-060840C4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1C9B-8914-4F8F-AE01-7F34D98C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316E-2B0F-4288-9B4A-17AB15D3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DCAA-F801-4AE4-B603-307818411E48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2680" y="2643120"/>
            <a:ext cx="6715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3286080"/>
            <a:ext cx="53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d749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03:29Z</dcterms:created>
  <dc:creator>Éric Vadeboncoeur</dc:creator>
  <dc:description/>
  <dc:language>en-US</dc:language>
  <cp:lastModifiedBy>Éric Vadeboncoeur</cp:lastModifiedBy>
  <dcterms:modified xsi:type="dcterms:W3CDTF">2008-03-03T23:08:25Z</dcterms:modified>
  <cp:revision>1</cp:revision>
  <dc:subject/>
  <dc:title>PRESENTATION  NAME</dc:title>
</cp:coreProperties>
</file>