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6541-8B93-44DE-BD88-4B831FA81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A120-2489-4940-AEB2-5647DD41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397F-AA35-4568-A883-933CEBB0F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6426-FD2B-45D7-BE7C-5BE2802CC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EDE7-2470-4742-9EDC-D4B6CB40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DAE3-8A6C-496A-A545-7A52D8A2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ADBF-BBA0-4786-BF3D-326CDCC9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3CA9-0F63-4DEF-8C14-243762F3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6F73-A36E-40D5-B2F5-EF80EB3F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0E49-0918-43C4-9B62-289AE096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0E21-4C0C-49FC-98A2-2A65B3BA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F553-94C2-499A-A32D-9A13DCE6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8404-B226-4512-B335-2E64D19863A5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0200" y="3500280"/>
            <a:ext cx="607248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60624e"/>
                </a:solidFill>
                <a:latin typeface="Calibri"/>
              </a:rPr>
              <a:t>PRESENTATION  NA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42800" y="4227480"/>
            <a:ext cx="5286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0624e"/>
                </a:solidFill>
                <a:latin typeface="Calibri"/>
              </a:rPr>
              <a:t>Company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02:15:40Z</dcterms:created>
  <dc:creator>Éric Vadeboncoeur</dc:creator>
  <dc:description/>
  <dc:language>en-US</dc:language>
  <cp:lastModifiedBy>Éric Vadeboncoeur</cp:lastModifiedBy>
  <dcterms:modified xsi:type="dcterms:W3CDTF">2008-04-17T03:41:46Z</dcterms:modified>
  <cp:revision>12</cp:revision>
  <dc:subject/>
  <dc:title>PRESENTATION  NAME</dc:title>
</cp:coreProperties>
</file>